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14.gif" ContentType="image/gif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5.gif" ContentType="image/gif"/>
  <Override PartName="/ppt/media/image9.png" ContentType="image/png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7D66-A28B-459A-8314-402E999C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85B7-C2EC-4527-93C2-75B254AC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FB74-4821-4751-A5A5-A2E806523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082B-B697-4DEF-AE0D-5FAB98135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EDA3-58D6-4E8C-ACCD-A6025D7F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EC5B-7A8C-4416-AEA3-F07A96C6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E60A-62C1-47B4-899C-8B8A3691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BB44-CCAD-49B6-B588-DFD432A6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3FD8-425C-4893-AB2C-866FE115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F22D-710D-4B88-89FC-ED8E9F03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8BA4-D892-47A5-B8C4-D7472683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4357-DD07-4774-84FB-F280F180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9900cc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6D29-ED09-4B00-933D-AD86824D8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9900cc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O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y  Ian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9900cc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m b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m boom boom boom boom boom boom boom bo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447920" y="3071880"/>
            <a:ext cx="28191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9900cc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ove toys!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38280" y="1646280"/>
            <a:ext cx="332424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9900cc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 rot="20897400">
            <a:off x="3886200" y="3276360"/>
            <a:ext cx="2800440" cy="2800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rot="17769000">
            <a:off x="4419360" y="53352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828800" y="3798720"/>
            <a:ext cx="2057400" cy="1706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066680" y="533520"/>
            <a:ext cx="335304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9900cc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 rot="20785800">
            <a:off x="1585800" y="2522520"/>
            <a:ext cx="4294440" cy="3208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9900cc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 rot="1131600">
            <a:off x="3497400" y="898200"/>
            <a:ext cx="4098960" cy="4098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52280" y="213372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 rot="1654800">
            <a:off x="304920" y="609480"/>
            <a:ext cx="3352680" cy="1555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038480" y="4229280"/>
            <a:ext cx="350532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9900cc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ool p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n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my fav 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 rot="411000">
            <a:off x="4495680" y="1599840"/>
            <a:ext cx="27241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9900cc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id and a 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916520" y="1905120"/>
            <a:ext cx="3389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9900cc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dudadad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dudadad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 rot="20232000">
            <a:off x="4952880" y="2286000"/>
            <a:ext cx="203688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9900cc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800600" y="2438280"/>
            <a:ext cx="287640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5:22:36Z</dcterms:created>
  <dc:creator>Yellow Springs Exempted Village School District</dc:creator>
  <dc:description/>
  <dc:language>en-US</dc:language>
  <cp:lastModifiedBy>Yellow Springs Exempted Village School District</cp:lastModifiedBy>
  <dcterms:modified xsi:type="dcterms:W3CDTF">2011-12-05T16:53:45Z</dcterms:modified>
  <cp:revision>8</cp:revision>
  <dc:subject/>
  <dc:title>TOYS</dc:title>
</cp:coreProperties>
</file>